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923-B457-41AF-A8D5-4D4C2D6A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CCB-E5F9-4630-87EC-CBA7AE87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4F-6500-4FA1-A418-97D03BCA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F2C-41F0-448D-BE1F-1B184F1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4A3-B44C-4098-844F-E37D4E4B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CB4C-2E1A-4DB8-9301-2CC25F8D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E25-A5E0-4552-825B-2153884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069A-E5D2-4D9B-BE52-F74CF00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B072-3517-4A1A-947E-3D5DAC0E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DC95-8D77-47CE-881A-5B0F0A2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1CF7-2BA9-4DBD-A56F-E75474E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537-DD96-431B-AF25-E3E8990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FEDA-BEDF-4512-9FEC-FFFF47DA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EED-99BF-47FC-BDB7-022DCEB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226-E8D9-4E4F-A283-AB2C3F7A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159-B7A5-4AAC-82F0-A921EE9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2E3-ABF7-490C-B353-A32434B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30F-9498-4A67-BAB5-5E52948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B2B-7C0F-4751-B937-B595CC7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80A-F7E0-4808-8D01-0FEEE51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2B9-5251-4F07-AD02-E4668BA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679-860F-4BCF-8DDA-2904533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EA8-FCF2-4BB2-BE3E-818448C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07-D3EE-41D8-B0B1-3A4166A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1B8B-4BB1-4F73-9BD5-6CD39AA29E8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369D-53B8-4BA8-8D7D-B1C3A3D8818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85fe85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五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51280" y="2708280"/>
            <a:ext cx="302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关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"/>
          <p:cNvSpPr/>
          <p:nvPr/>
        </p:nvSpPr>
        <p:spPr>
          <a:xfrm>
            <a:off x="322524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关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7324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练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8617" t="61765" r="12526" b="1275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4049" t="8493" r="10356" b="57028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4049" t="43242" r="8191" b="24020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8031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分数的意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2119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7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0880" y="1844640"/>
            <a:ext cx="24724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位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”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170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物体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计量单位或是许多物体组成的一个整体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都可以用自然数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来表示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通常我们把它叫做单位“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680" y="2840040"/>
            <a:ext cx="24724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   数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7320" y="4994280"/>
            <a:ext cx="21862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各部分的名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400" y="3848040"/>
            <a:ext cx="2228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单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5040" y="395748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把单位“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平均分成若干份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表示其中的一份的数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617640" y="4548240"/>
            <a:ext cx="424440" cy="1123560"/>
            <a:chOff x="3617640" y="4548240"/>
            <a:chExt cx="424440" cy="1123560"/>
          </a:xfrm>
        </p:grpSpPr>
        <p:sp>
          <p:nvSpPr>
            <p:cNvPr id="142" name=""/>
            <p:cNvSpPr/>
            <p:nvPr/>
          </p:nvSpPr>
          <p:spPr>
            <a:xfrm>
              <a:off x="3620160" y="5151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5280" y="5157720"/>
              <a:ext cx="3603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17640" y="4548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211640" y="4869000"/>
            <a:ext cx="431640" cy="576000"/>
            <a:chOff x="4211640" y="4869000"/>
            <a:chExt cx="431640" cy="576000"/>
          </a:xfrm>
        </p:grpSpPr>
        <p:sp>
          <p:nvSpPr>
            <p:cNvPr id="146" name=""/>
            <p:cNvSpPr/>
            <p:nvPr/>
          </p:nvSpPr>
          <p:spPr>
            <a:xfrm>
              <a:off x="4211640" y="486900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1640" y="515772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1640" y="544500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67120" y="4581360"/>
            <a:ext cx="1819440" cy="1073880"/>
            <a:chOff x="4767120" y="4581360"/>
            <a:chExt cx="1819440" cy="1073880"/>
          </a:xfrm>
        </p:grpSpPr>
        <p:sp>
          <p:nvSpPr>
            <p:cNvPr id="150" name=""/>
            <p:cNvSpPr/>
            <p:nvPr/>
          </p:nvSpPr>
          <p:spPr>
            <a:xfrm>
              <a:off x="4986360" y="4894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分数线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67120" y="4581360"/>
              <a:ext cx="1819440" cy="1073880"/>
              <a:chOff x="4767120" y="4581360"/>
              <a:chExt cx="1819440" cy="107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4767120" y="4581360"/>
                <a:ext cx="181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分子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39920" y="51955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分母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6362280" y="522756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表示平均分的份数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000" y="458136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表示所取的份数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85264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单位“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成若干份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表示这样的一份或者几份的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叫做分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48000" y="18900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17080" y="609300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4" h="21600">
                <a:moveTo>
                  <a:pt x="20682" y="3837"/>
                </a:moveTo>
                <a:lnTo>
                  <a:pt x="23258" y="6448"/>
                </a:lnTo>
                <a:lnTo>
                  <a:pt x="23258" y="4707"/>
                </a:lnTo>
                <a:lnTo>
                  <a:pt x="25034" y="4707"/>
                </a:lnTo>
                <a:lnTo>
                  <a:pt x="25034" y="8224"/>
                </a:lnTo>
                <a:lnTo>
                  <a:pt x="27645" y="10800"/>
                </a:lnTo>
                <a:lnTo>
                  <a:pt x="25991" y="10800"/>
                </a:lnTo>
                <a:lnTo>
                  <a:pt x="25991" y="17989"/>
                </a:lnTo>
                <a:lnTo>
                  <a:pt x="15373" y="17989"/>
                </a:lnTo>
                <a:lnTo>
                  <a:pt x="15373" y="10800"/>
                </a:lnTo>
                <a:lnTo>
                  <a:pt x="13719" y="10800"/>
                </a:lnTo>
                <a:close/>
              </a:path>
              <a:path fill="darkenLess" w="41364" h="21600">
                <a:moveTo>
                  <a:pt x="23258" y="6448"/>
                </a:moveTo>
                <a:lnTo>
                  <a:pt x="23258" y="4707"/>
                </a:lnTo>
                <a:lnTo>
                  <a:pt x="25034" y="4707"/>
                </a:lnTo>
                <a:lnTo>
                  <a:pt x="25034" y="8224"/>
                </a:lnTo>
                <a:close/>
              </a:path>
              <a:path fill="darkenLess" w="41364" h="21600">
                <a:moveTo>
                  <a:pt x="19759" y="14299"/>
                </a:moveTo>
                <a:lnTo>
                  <a:pt x="21605" y="14299"/>
                </a:lnTo>
                <a:lnTo>
                  <a:pt x="21605" y="17989"/>
                </a:lnTo>
                <a:lnTo>
                  <a:pt x="25991" y="17989"/>
                </a:lnTo>
                <a:lnTo>
                  <a:pt x="25991" y="10800"/>
                </a:lnTo>
                <a:lnTo>
                  <a:pt x="15373" y="10800"/>
                </a:lnTo>
                <a:lnTo>
                  <a:pt x="15373" y="17989"/>
                </a:lnTo>
                <a:lnTo>
                  <a:pt x="1975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1640" y="907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分数的分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212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47520" y="237348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分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4829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子比分母小的分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79640" y="377820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子比分母大或者分子和分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等的分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3781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分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lt;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41529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分数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19160" y="515772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带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98640" y="513720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个整数带上一个分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那个分数小于一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分数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6080" y="3645000"/>
            <a:ext cx="1726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4446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大小的比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162864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母相同的两个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子大的分数比较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0440" y="296856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子相同的两个分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母小的分数比较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2276640"/>
            <a:ext cx="4242600" cy="707400"/>
            <a:chOff x="1835280" y="2276640"/>
            <a:chExt cx="4242600" cy="707400"/>
          </a:xfrm>
        </p:grpSpPr>
        <p:sp>
          <p:nvSpPr>
            <p:cNvPr id="175" name=""/>
            <p:cNvSpPr/>
            <p:nvPr/>
          </p:nvSpPr>
          <p:spPr>
            <a:xfrm>
              <a:off x="1835280" y="2289240"/>
              <a:ext cx="62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8000" y="2628720"/>
              <a:ext cx="431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23840" y="22766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1640" y="23414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0000" y="23414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14560" y="261756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268272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70360" y="2681280"/>
              <a:ext cx="360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9480" y="2484360"/>
              <a:ext cx="36000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6560" y="2485800"/>
              <a:ext cx="36000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81080" y="3443400"/>
            <a:ext cx="4195800" cy="707400"/>
            <a:chOff x="1981080" y="3443400"/>
            <a:chExt cx="4195800" cy="707400"/>
          </a:xfrm>
        </p:grpSpPr>
        <p:sp>
          <p:nvSpPr>
            <p:cNvPr id="186" name=""/>
            <p:cNvSpPr/>
            <p:nvPr/>
          </p:nvSpPr>
          <p:spPr>
            <a:xfrm>
              <a:off x="1981080" y="3456000"/>
              <a:ext cx="62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4160" y="3795480"/>
              <a:ext cx="43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0360" y="3443400"/>
              <a:ext cx="37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8160" y="350820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6520" y="3508200"/>
              <a:ext cx="4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720" y="378432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8520" y="384948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16520" y="384804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55640" y="3651120"/>
              <a:ext cx="36036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36525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48580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2288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8880" y="35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4160" y="3619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求出原来几个分母的最小公倍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然后把各个分数分别化成用这个最小公倍数作分母的分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84440" y="5451480"/>
            <a:ext cx="2080080" cy="642600"/>
            <a:chOff x="1684440" y="5451480"/>
            <a:chExt cx="2080080" cy="642600"/>
          </a:xfrm>
        </p:grpSpPr>
        <p:sp>
          <p:nvSpPr>
            <p:cNvPr id="202" name=""/>
            <p:cNvSpPr/>
            <p:nvPr/>
          </p:nvSpPr>
          <p:spPr>
            <a:xfrm>
              <a:off x="1684440" y="5451480"/>
              <a:ext cx="20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7a77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        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6               9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8960" y="579276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36960" y="5792760"/>
              <a:ext cx="36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33680" y="5576760"/>
              <a:ext cx="431640" cy="432000"/>
            </a:xfrm>
            <a:prstGeom prst="ellips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5744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101080" y="6354720"/>
            <a:ext cx="1042920" cy="50328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4744" h="21600">
                <a:moveTo>
                  <a:pt x="0" y="0"/>
                </a:moveTo>
                <a:lnTo>
                  <a:pt x="44744" y="0"/>
                </a:lnTo>
                <a:lnTo>
                  <a:pt x="44744" y="21600"/>
                </a:lnTo>
                <a:lnTo>
                  <a:pt x="0" y="21600"/>
                </a:lnTo>
                <a:close/>
              </a:path>
              <a:path fill="lightenLess" w="44744" h="21600">
                <a:moveTo>
                  <a:pt x="0" y="0"/>
                </a:moveTo>
                <a:lnTo>
                  <a:pt x="44744" y="0"/>
                </a:lnTo>
                <a:lnTo>
                  <a:pt x="43344" y="1400"/>
                </a:lnTo>
                <a:lnTo>
                  <a:pt x="1400" y="1400"/>
                </a:lnTo>
                <a:close/>
              </a:path>
              <a:path fill="darken" w="44744" h="21600">
                <a:moveTo>
                  <a:pt x="44744" y="0"/>
                </a:moveTo>
                <a:lnTo>
                  <a:pt x="44744" y="21600"/>
                </a:lnTo>
                <a:lnTo>
                  <a:pt x="43344" y="20200"/>
                </a:lnTo>
                <a:lnTo>
                  <a:pt x="43344" y="1400"/>
                </a:lnTo>
                <a:close/>
              </a:path>
              <a:path fill="darkenLess" w="44744" h="21600">
                <a:moveTo>
                  <a:pt x="44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4" y="20200"/>
                </a:lnTo>
                <a:close/>
              </a:path>
              <a:path fill="lighten" w="44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44" h="21600">
                <a:moveTo>
                  <a:pt x="22372" y="3837"/>
                </a:moveTo>
                <a:lnTo>
                  <a:pt x="24948" y="6448"/>
                </a:lnTo>
                <a:lnTo>
                  <a:pt x="24948" y="4707"/>
                </a:lnTo>
                <a:lnTo>
                  <a:pt x="26724" y="4707"/>
                </a:lnTo>
                <a:lnTo>
                  <a:pt x="26724" y="8224"/>
                </a:lnTo>
                <a:lnTo>
                  <a:pt x="29335" y="10800"/>
                </a:lnTo>
                <a:lnTo>
                  <a:pt x="27681" y="10800"/>
                </a:lnTo>
                <a:lnTo>
                  <a:pt x="27681" y="17989"/>
                </a:lnTo>
                <a:lnTo>
                  <a:pt x="17063" y="17989"/>
                </a:lnTo>
                <a:lnTo>
                  <a:pt x="17063" y="10800"/>
                </a:lnTo>
                <a:lnTo>
                  <a:pt x="15409" y="10800"/>
                </a:lnTo>
                <a:close/>
              </a:path>
              <a:path fill="darkenLess" w="44744" h="21600">
                <a:moveTo>
                  <a:pt x="24948" y="6448"/>
                </a:moveTo>
                <a:lnTo>
                  <a:pt x="24948" y="4707"/>
                </a:lnTo>
                <a:lnTo>
                  <a:pt x="26724" y="4707"/>
                </a:lnTo>
                <a:lnTo>
                  <a:pt x="26724" y="8224"/>
                </a:lnTo>
                <a:close/>
              </a:path>
              <a:path fill="darkenLess" w="44744" h="21600">
                <a:moveTo>
                  <a:pt x="21449" y="14299"/>
                </a:moveTo>
                <a:lnTo>
                  <a:pt x="23295" y="14299"/>
                </a:lnTo>
                <a:lnTo>
                  <a:pt x="23295" y="17989"/>
                </a:lnTo>
                <a:lnTo>
                  <a:pt x="27681" y="17989"/>
                </a:lnTo>
                <a:lnTo>
                  <a:pt x="27681" y="10800"/>
                </a:lnTo>
                <a:lnTo>
                  <a:pt x="17063" y="10800"/>
                </a:lnTo>
                <a:lnTo>
                  <a:pt x="17063" y="17989"/>
                </a:lnTo>
                <a:lnTo>
                  <a:pt x="214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16000" y="40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数与除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19162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数与除法的关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9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除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除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359240" y="2781360"/>
            <a:ext cx="1364400" cy="898920"/>
            <a:chOff x="4359240" y="2781360"/>
            <a:chExt cx="1364400" cy="898920"/>
          </a:xfrm>
        </p:grpSpPr>
        <p:sp>
          <p:nvSpPr>
            <p:cNvPr id="212" name=""/>
            <p:cNvSpPr/>
            <p:nvPr/>
          </p:nvSpPr>
          <p:spPr>
            <a:xfrm>
              <a:off x="4398480" y="2781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被除数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82360" y="3220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除数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9240" y="3317040"/>
              <a:ext cx="136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742000" y="31417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除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Arial"/>
              </a:rPr>
              <a:t>0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050920" y="4292640"/>
            <a:ext cx="2739960" cy="920880"/>
            <a:chOff x="2050920" y="4292640"/>
            <a:chExt cx="2739960" cy="920880"/>
          </a:xfrm>
        </p:grpSpPr>
        <p:sp>
          <p:nvSpPr>
            <p:cNvPr id="217" name=""/>
            <p:cNvSpPr/>
            <p:nvPr/>
          </p:nvSpPr>
          <p:spPr>
            <a:xfrm>
              <a:off x="2050920" y="4515480"/>
              <a:ext cx="11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a÷b</a:t>
              </a: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191760" y="4292640"/>
              <a:ext cx="403200" cy="920880"/>
              <a:chOff x="3191760" y="4292640"/>
              <a:chExt cx="403200" cy="920880"/>
            </a:xfrm>
          </p:grpSpPr>
          <p:sp>
            <p:nvSpPr>
              <p:cNvPr id="219" name=""/>
              <p:cNvSpPr/>
              <p:nvPr/>
            </p:nvSpPr>
            <p:spPr>
              <a:xfrm>
                <a:off x="3199320" y="429264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91760" y="47538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宋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37120" y="4903920"/>
                <a:ext cx="357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61720" y="448776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(b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  <a:ea typeface="Arial"/>
                </a:rPr>
                <a:t>≠0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862360" y="386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101080" y="6165720"/>
            <a:ext cx="1042920" cy="54000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1703" h="21600">
                <a:moveTo>
                  <a:pt x="0" y="0"/>
                </a:moveTo>
                <a:lnTo>
                  <a:pt x="41703" y="0"/>
                </a:lnTo>
                <a:lnTo>
                  <a:pt x="41703" y="21600"/>
                </a:lnTo>
                <a:lnTo>
                  <a:pt x="0" y="21600"/>
                </a:lnTo>
                <a:close/>
              </a:path>
              <a:path fill="lightenLess" w="41703" h="21600">
                <a:moveTo>
                  <a:pt x="0" y="0"/>
                </a:moveTo>
                <a:lnTo>
                  <a:pt x="41703" y="0"/>
                </a:lnTo>
                <a:lnTo>
                  <a:pt x="40303" y="1400"/>
                </a:lnTo>
                <a:lnTo>
                  <a:pt x="1400" y="1400"/>
                </a:lnTo>
                <a:close/>
              </a:path>
              <a:path fill="darken" w="41703" h="21600">
                <a:moveTo>
                  <a:pt x="41703" y="0"/>
                </a:moveTo>
                <a:lnTo>
                  <a:pt x="41703" y="21600"/>
                </a:lnTo>
                <a:lnTo>
                  <a:pt x="40303" y="20200"/>
                </a:lnTo>
                <a:lnTo>
                  <a:pt x="40303" y="1400"/>
                </a:lnTo>
                <a:close/>
              </a:path>
              <a:path fill="darkenLess" w="41703" h="21600">
                <a:moveTo>
                  <a:pt x="41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3" y="20200"/>
                </a:lnTo>
                <a:close/>
              </a:path>
              <a:path fill="lighten" w="41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3" h="21600">
                <a:moveTo>
                  <a:pt x="20852" y="3837"/>
                </a:moveTo>
                <a:lnTo>
                  <a:pt x="23428" y="6448"/>
                </a:lnTo>
                <a:lnTo>
                  <a:pt x="23428" y="4707"/>
                </a:lnTo>
                <a:lnTo>
                  <a:pt x="25204" y="4707"/>
                </a:lnTo>
                <a:lnTo>
                  <a:pt x="25204" y="8224"/>
                </a:lnTo>
                <a:lnTo>
                  <a:pt x="27815" y="10800"/>
                </a:lnTo>
                <a:lnTo>
                  <a:pt x="26161" y="10800"/>
                </a:lnTo>
                <a:lnTo>
                  <a:pt x="26161" y="17989"/>
                </a:lnTo>
                <a:lnTo>
                  <a:pt x="15542" y="17989"/>
                </a:lnTo>
                <a:lnTo>
                  <a:pt x="15542" y="10800"/>
                </a:lnTo>
                <a:lnTo>
                  <a:pt x="13889" y="10800"/>
                </a:lnTo>
                <a:close/>
              </a:path>
              <a:path fill="darkenLess" w="41703" h="21600">
                <a:moveTo>
                  <a:pt x="23428" y="6448"/>
                </a:moveTo>
                <a:lnTo>
                  <a:pt x="23428" y="4707"/>
                </a:lnTo>
                <a:lnTo>
                  <a:pt x="25204" y="4707"/>
                </a:lnTo>
                <a:lnTo>
                  <a:pt x="25204" y="8224"/>
                </a:lnTo>
                <a:close/>
              </a:path>
              <a:path fill="darkenLess" w="41703" h="21600">
                <a:moveTo>
                  <a:pt x="19929" y="14299"/>
                </a:moveTo>
                <a:lnTo>
                  <a:pt x="21774" y="14299"/>
                </a:lnTo>
                <a:lnTo>
                  <a:pt x="21774" y="17989"/>
                </a:lnTo>
                <a:lnTo>
                  <a:pt x="26161" y="17989"/>
                </a:lnTo>
                <a:lnTo>
                  <a:pt x="26161" y="10800"/>
                </a:lnTo>
                <a:lnTo>
                  <a:pt x="15542" y="10800"/>
                </a:lnTo>
                <a:lnTo>
                  <a:pt x="15542" y="17989"/>
                </a:lnTo>
                <a:lnTo>
                  <a:pt x="1992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2682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数的基本性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79520" y="220500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的分子和分母同时乘以或者除以相同的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221000"/>
            <a:ext cx="907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分数的分母不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子乘以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分子不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母除以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/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分子加上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要使分数大小不变，分母应该加上（    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2708280"/>
            <a:ext cx="649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2708280"/>
            <a:ext cx="19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2708280"/>
            <a:ext cx="129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314172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11840" y="419580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9417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9240" y="566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23639" y="3837"/>
                </a:moveTo>
                <a:lnTo>
                  <a:pt x="26216" y="6448"/>
                </a:ln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lnTo>
                  <a:pt x="30602" y="10800"/>
                </a:lnTo>
                <a:lnTo>
                  <a:pt x="28949" y="10800"/>
                </a:lnTo>
                <a:lnTo>
                  <a:pt x="28949" y="17989"/>
                </a:lnTo>
                <a:lnTo>
                  <a:pt x="18330" y="17989"/>
                </a:lnTo>
                <a:lnTo>
                  <a:pt x="18330" y="10800"/>
                </a:lnTo>
                <a:lnTo>
                  <a:pt x="16676" y="10800"/>
                </a:lnTo>
                <a:close/>
              </a:path>
              <a:path fill="darkenLess" w="47279" h="21600">
                <a:moveTo>
                  <a:pt x="26216" y="6448"/>
                </a:move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close/>
              </a:path>
              <a:path fill="darkenLess" w="47279" h="21600">
                <a:moveTo>
                  <a:pt x="22717" y="14299"/>
                </a:moveTo>
                <a:lnTo>
                  <a:pt x="24562" y="14299"/>
                </a:lnTo>
                <a:lnTo>
                  <a:pt x="24562" y="17989"/>
                </a:lnTo>
                <a:lnTo>
                  <a:pt x="28949" y="17989"/>
                </a:lnTo>
                <a:lnTo>
                  <a:pt x="28949" y="10800"/>
                </a:lnTo>
                <a:lnTo>
                  <a:pt x="18330" y="10800"/>
                </a:lnTo>
                <a:lnTo>
                  <a:pt x="18330" y="17989"/>
                </a:lnTo>
                <a:lnTo>
                  <a:pt x="22717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9640" y="63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约分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8680" y="1700280"/>
            <a:ext cx="336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约分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把一个分数化成和它相等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但分子和分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比较小的分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852640"/>
            <a:ext cx="743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约分的方法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用分子分母的公约数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(1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除外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逐次去除分子和分母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到得到最简分数为止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用分子和分母的最大公约数去除分子和分母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5013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：一般约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简分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5734080"/>
            <a:ext cx="95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简分数：分数的分子和分母的公因数只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分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101080" y="6318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1" h="21600">
                <a:moveTo>
                  <a:pt x="20866" y="3837"/>
                </a:moveTo>
                <a:lnTo>
                  <a:pt x="23442" y="6448"/>
                </a:lnTo>
                <a:lnTo>
                  <a:pt x="23442" y="4707"/>
                </a:lnTo>
                <a:lnTo>
                  <a:pt x="25217" y="4707"/>
                </a:lnTo>
                <a:lnTo>
                  <a:pt x="25217" y="8224"/>
                </a:lnTo>
                <a:lnTo>
                  <a:pt x="27829" y="10800"/>
                </a:lnTo>
                <a:lnTo>
                  <a:pt x="26175" y="10800"/>
                </a:lnTo>
                <a:lnTo>
                  <a:pt x="26175" y="17989"/>
                </a:lnTo>
                <a:lnTo>
                  <a:pt x="15556" y="17989"/>
                </a:lnTo>
                <a:lnTo>
                  <a:pt x="15556" y="10800"/>
                </a:lnTo>
                <a:lnTo>
                  <a:pt x="13903" y="10800"/>
                </a:lnTo>
                <a:close/>
              </a:path>
              <a:path fill="darkenLess" w="41731" h="21600">
                <a:moveTo>
                  <a:pt x="23442" y="6448"/>
                </a:moveTo>
                <a:lnTo>
                  <a:pt x="23442" y="4707"/>
                </a:lnTo>
                <a:lnTo>
                  <a:pt x="25217" y="4707"/>
                </a:lnTo>
                <a:lnTo>
                  <a:pt x="25217" y="8224"/>
                </a:lnTo>
                <a:close/>
              </a:path>
              <a:path fill="darkenLess" w="41731" h="21600">
                <a:moveTo>
                  <a:pt x="19943" y="14299"/>
                </a:moveTo>
                <a:lnTo>
                  <a:pt x="21788" y="14299"/>
                </a:lnTo>
                <a:lnTo>
                  <a:pt x="21788" y="17989"/>
                </a:lnTo>
                <a:lnTo>
                  <a:pt x="26175" y="17989"/>
                </a:lnTo>
                <a:lnTo>
                  <a:pt x="26175" y="10800"/>
                </a:lnTo>
                <a:lnTo>
                  <a:pt x="15556" y="10800"/>
                </a:lnTo>
                <a:lnTo>
                  <a:pt x="15556" y="17989"/>
                </a:lnTo>
                <a:lnTo>
                  <a:pt x="19943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6716" t="17469" r="11452" b="59078"/>
          <a:stretch/>
        </p:blipFill>
        <p:spPr>
          <a:xfrm>
            <a:off x="0" y="549360"/>
            <a:ext cx="921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26920" y="2565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整数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均分成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份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1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份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的一份或几份分别是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之几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分之几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用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94040" y="5157720"/>
            <a:ext cx="4177440" cy="649080"/>
            <a:chOff x="1994040" y="5157720"/>
            <a:chExt cx="4177440" cy="649080"/>
          </a:xfrm>
        </p:grpSpPr>
        <p:sp>
          <p:nvSpPr>
            <p:cNvPr id="247" name=""/>
            <p:cNvSpPr/>
            <p:nvPr/>
          </p:nvSpPr>
          <p:spPr>
            <a:xfrm>
              <a:off x="1994040" y="5300640"/>
              <a:ext cx="417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如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         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记作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0.1               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记作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:0.08</a:t>
              </a: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313000" y="5164200"/>
              <a:ext cx="497880" cy="642600"/>
              <a:chOff x="2313000" y="5164200"/>
              <a:chExt cx="497880" cy="642600"/>
            </a:xfrm>
          </p:grpSpPr>
          <p:sp>
            <p:nvSpPr>
              <p:cNvPr id="249" name=""/>
              <p:cNvSpPr/>
              <p:nvPr/>
            </p:nvSpPr>
            <p:spPr>
              <a:xfrm>
                <a:off x="2313000" y="5164200"/>
                <a:ext cx="49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 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03360" y="5503680"/>
                <a:ext cx="360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969000" y="5157720"/>
              <a:ext cx="560160" cy="642600"/>
              <a:chOff x="3969000" y="5157720"/>
              <a:chExt cx="560160" cy="642600"/>
            </a:xfrm>
          </p:grpSpPr>
          <p:sp>
            <p:nvSpPr>
              <p:cNvPr id="252" name=""/>
              <p:cNvSpPr/>
              <p:nvPr/>
            </p:nvSpPr>
            <p:spPr>
              <a:xfrm>
                <a:off x="3969000" y="5157720"/>
                <a:ext cx="56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8640" y="5497200"/>
                <a:ext cx="4320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 txBox="1"/>
          <p:nvPr/>
        </p:nvSpPr>
        <p:spPr>
          <a:xfrm>
            <a:off x="3492360" y="0"/>
            <a:ext cx="216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小数的意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数位顺序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1701720"/>
            <a:ext cx="8137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421000"/>
            <a:ext cx="81378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7744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170172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2422440"/>
            <a:ext cx="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97080" y="3070080"/>
            <a:ext cx="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00360" y="3070080"/>
            <a:ext cx="144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070080"/>
            <a:ext cx="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2422440"/>
            <a:ext cx="144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3068640"/>
            <a:ext cx="42480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2920" y="3070080"/>
            <a:ext cx="180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61080" y="3068640"/>
            <a:ext cx="0" cy="3097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5640" y="3070080"/>
            <a:ext cx="1440" cy="309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940000" y="1701720"/>
            <a:ext cx="180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88000" y="1700280"/>
            <a:ext cx="0" cy="4464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7920" y="2421000"/>
            <a:ext cx="0" cy="374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96360" y="2421000"/>
            <a:ext cx="0" cy="374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2421000"/>
            <a:ext cx="1440" cy="374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4508640"/>
            <a:ext cx="540072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4508640"/>
            <a:ext cx="208944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6165720"/>
            <a:ext cx="8137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076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Arial"/>
              </a:rPr>
              <a:t>小数点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79280" y="18446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整 数 部 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48800" y="184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小数部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520" y="2675520"/>
            <a:ext cx="5461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数   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4520" y="44323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计数单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8000" y="36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661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85080" y="40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80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7308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82920" y="256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   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35240" y="2602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  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888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2421000"/>
            <a:ext cx="813780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8880" y="509940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0680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6252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32240" y="3357720"/>
            <a:ext cx="546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796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5588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1160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51160" y="33577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6880" y="50662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4840" y="3141720"/>
            <a:ext cx="9118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万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4869000"/>
            <a:ext cx="546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05760" y="321300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7240" y="4902120"/>
            <a:ext cx="546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83760" y="321300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万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39120" y="4897440"/>
            <a:ext cx="9118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39040" y="2708280"/>
            <a:ext cx="54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280" y="4724280"/>
            <a:ext cx="9118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十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43760" y="2708280"/>
            <a:ext cx="54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78000" y="4724280"/>
            <a:ext cx="9118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百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4960" y="2712960"/>
            <a:ext cx="5461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 分 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2200" y="4724280"/>
            <a:ext cx="9118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分之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235560"/>
            <a:ext cx="590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相邻两个计数单位之间的进率都是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101080" y="629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9872" y="3837"/>
                </a:moveTo>
                <a:lnTo>
                  <a:pt x="22448" y="6448"/>
                </a:ln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lnTo>
                  <a:pt x="26835" y="10800"/>
                </a:lnTo>
                <a:lnTo>
                  <a:pt x="25181" y="10800"/>
                </a:lnTo>
                <a:lnTo>
                  <a:pt x="25181" y="17989"/>
                </a:lnTo>
                <a:lnTo>
                  <a:pt x="14563" y="17989"/>
                </a:lnTo>
                <a:lnTo>
                  <a:pt x="14563" y="10800"/>
                </a:lnTo>
                <a:lnTo>
                  <a:pt x="12909" y="10800"/>
                </a:lnTo>
                <a:close/>
              </a:path>
              <a:path fill="darkenLess" w="39744" h="21600">
                <a:moveTo>
                  <a:pt x="22448" y="6448"/>
                </a:move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close/>
              </a:path>
              <a:path fill="darkenLess" w="39744" h="21600">
                <a:moveTo>
                  <a:pt x="18949" y="14299"/>
                </a:moveTo>
                <a:lnTo>
                  <a:pt x="20795" y="14299"/>
                </a:lnTo>
                <a:lnTo>
                  <a:pt x="20795" y="17989"/>
                </a:lnTo>
                <a:lnTo>
                  <a:pt x="25181" y="17989"/>
                </a:lnTo>
                <a:lnTo>
                  <a:pt x="25181" y="10800"/>
                </a:lnTo>
                <a:lnTo>
                  <a:pt x="14563" y="10800"/>
                </a:lnTo>
                <a:lnTo>
                  <a:pt x="14563" y="17989"/>
                </a:lnTo>
                <a:lnTo>
                  <a:pt x="189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660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数点右边第一位是（     ）位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计数单位是（              ）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第二位是（     ）位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计数单位（        ）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小数部分的最大计数单位是（         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没有最小的计数单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小数部分有几个数位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就叫做几位小数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18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十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836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分之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百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分之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357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分之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8280" y="98100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小数的读法和写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小数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整数部分按整数的读法来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点读作“点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部分按照顺序读出每一个数位上的数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小数时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整数部分按照整数的写法来写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数点写在个位右下角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数部分顺次写出每一个数位上的数字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6320" y="311616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5.469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6520" y="3116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四十五点四六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9560" y="981000"/>
            <a:ext cx="24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5900"/>
                </a:solidFill>
                <a:latin typeface="Arial"/>
                <a:ea typeface="黑体"/>
              </a:rPr>
              <a:t>4.</a:t>
            </a:r>
            <a:r>
              <a:rPr b="0" lang="zh-CN" sz="4400" spc="-1" strike="noStrike">
                <a:solidFill>
                  <a:srgbClr val="dc5900"/>
                </a:solidFill>
                <a:latin typeface="Arial"/>
                <a:ea typeface="黑体"/>
              </a:rPr>
              <a:t>小数的性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219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末尾添上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者去掉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的大小不变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37767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50=3.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2781360"/>
            <a:ext cx="216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85040" y="699480"/>
            <a:ext cx="33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的大小比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8960" y="3573720"/>
            <a:ext cx="714816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方法：整数部分大的就大，整数部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相同，看十分位，十分位大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就大，十分位相同，看百分位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百分位大的就大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98360" y="1699560"/>
            <a:ext cx="36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0.9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9.997 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41280" y="2491920"/>
            <a:ext cx="34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.5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.456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8101080" y="629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9872" y="3837"/>
                </a:moveTo>
                <a:lnTo>
                  <a:pt x="22448" y="6448"/>
                </a:ln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lnTo>
                  <a:pt x="26835" y="10800"/>
                </a:lnTo>
                <a:lnTo>
                  <a:pt x="25181" y="10800"/>
                </a:lnTo>
                <a:lnTo>
                  <a:pt x="25181" y="17989"/>
                </a:lnTo>
                <a:lnTo>
                  <a:pt x="14563" y="17989"/>
                </a:lnTo>
                <a:lnTo>
                  <a:pt x="14563" y="10800"/>
                </a:lnTo>
                <a:lnTo>
                  <a:pt x="12909" y="10800"/>
                </a:lnTo>
                <a:close/>
              </a:path>
              <a:path fill="darkenLess" w="39744" h="21600">
                <a:moveTo>
                  <a:pt x="22448" y="6448"/>
                </a:moveTo>
                <a:lnTo>
                  <a:pt x="22448" y="4707"/>
                </a:lnTo>
                <a:lnTo>
                  <a:pt x="24224" y="4707"/>
                </a:lnTo>
                <a:lnTo>
                  <a:pt x="24224" y="8224"/>
                </a:lnTo>
                <a:close/>
              </a:path>
              <a:path fill="darkenLess" w="39744" h="21600">
                <a:moveTo>
                  <a:pt x="18949" y="14299"/>
                </a:moveTo>
                <a:lnTo>
                  <a:pt x="20795" y="14299"/>
                </a:lnTo>
                <a:lnTo>
                  <a:pt x="20795" y="17989"/>
                </a:lnTo>
                <a:lnTo>
                  <a:pt x="25181" y="17989"/>
                </a:lnTo>
                <a:lnTo>
                  <a:pt x="25181" y="10800"/>
                </a:lnTo>
                <a:lnTo>
                  <a:pt x="14563" y="10800"/>
                </a:lnTo>
                <a:lnTo>
                  <a:pt x="14563" y="17989"/>
                </a:lnTo>
                <a:lnTo>
                  <a:pt x="1894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03280" y="1268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6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小数点数位移动引起小数大小的变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242100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点向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移动一位、两位、三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来的数就扩大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缩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要把一个数扩大或缩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需要移动小数点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位不够时用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补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87280" y="1027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5900"/>
                </a:solidFill>
                <a:latin typeface="Arial"/>
                <a:ea typeface="黑体"/>
              </a:rPr>
              <a:t>7.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黑体"/>
              </a:rPr>
              <a:t>小数的分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" y="1844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342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11280" y="25257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限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420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3640" y="335772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循环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03640" y="465300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不循环小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2852640"/>
            <a:ext cx="144720" cy="1656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6000" y="364500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42920" y="40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5900"/>
                </a:solidFill>
                <a:latin typeface="Arial"/>
                <a:ea typeface="黑体"/>
              </a:rPr>
              <a:t>8.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黑体"/>
              </a:rPr>
              <a:t>循环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4560" y="1341360"/>
            <a:ext cx="691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小数的小数部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某一位起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个或几个数字依次不断重复出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的数叫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循环小数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555……   7.23838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依次不断重复出现的数字叫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循环节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循环小数的简便记法（循环点打在循环节的首位和未位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555……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0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23838…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7.238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584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9720" y="537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101080" y="6337440"/>
            <a:ext cx="1042920" cy="52056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60" h="21600">
                <a:moveTo>
                  <a:pt x="0" y="0"/>
                </a:moveTo>
                <a:lnTo>
                  <a:pt x="43260" y="0"/>
                </a:lnTo>
                <a:lnTo>
                  <a:pt x="43260" y="21600"/>
                </a:lnTo>
                <a:lnTo>
                  <a:pt x="0" y="21600"/>
                </a:lnTo>
                <a:close/>
              </a:path>
              <a:path fill="lightenLess" w="43260" h="21600">
                <a:moveTo>
                  <a:pt x="0" y="0"/>
                </a:moveTo>
                <a:lnTo>
                  <a:pt x="43260" y="0"/>
                </a:lnTo>
                <a:lnTo>
                  <a:pt x="41860" y="1400"/>
                </a:lnTo>
                <a:lnTo>
                  <a:pt x="1400" y="1400"/>
                </a:lnTo>
                <a:close/>
              </a:path>
              <a:path fill="darken" w="43260" h="21600">
                <a:moveTo>
                  <a:pt x="43260" y="0"/>
                </a:moveTo>
                <a:lnTo>
                  <a:pt x="43260" y="21600"/>
                </a:lnTo>
                <a:lnTo>
                  <a:pt x="41860" y="20200"/>
                </a:lnTo>
                <a:lnTo>
                  <a:pt x="41860" y="1400"/>
                </a:lnTo>
                <a:close/>
              </a:path>
              <a:path fill="darkenLess" w="43260" h="21600">
                <a:moveTo>
                  <a:pt x="4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0" y="20200"/>
                </a:lnTo>
                <a:close/>
              </a:path>
              <a:path fill="lighten" w="4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0" h="21600">
                <a:moveTo>
                  <a:pt x="21630" y="3837"/>
                </a:moveTo>
                <a:lnTo>
                  <a:pt x="24206" y="6448"/>
                </a:lnTo>
                <a:lnTo>
                  <a:pt x="24206" y="4707"/>
                </a:lnTo>
                <a:lnTo>
                  <a:pt x="25982" y="4707"/>
                </a:lnTo>
                <a:lnTo>
                  <a:pt x="25982" y="8224"/>
                </a:lnTo>
                <a:lnTo>
                  <a:pt x="28593" y="10800"/>
                </a:lnTo>
                <a:lnTo>
                  <a:pt x="26939" y="10800"/>
                </a:lnTo>
                <a:lnTo>
                  <a:pt x="26939" y="17989"/>
                </a:lnTo>
                <a:lnTo>
                  <a:pt x="16321" y="17989"/>
                </a:lnTo>
                <a:lnTo>
                  <a:pt x="16321" y="10800"/>
                </a:lnTo>
                <a:lnTo>
                  <a:pt x="14667" y="10800"/>
                </a:lnTo>
                <a:close/>
              </a:path>
              <a:path fill="darkenLess" w="43260" h="21600">
                <a:moveTo>
                  <a:pt x="24206" y="6448"/>
                </a:moveTo>
                <a:lnTo>
                  <a:pt x="24206" y="4707"/>
                </a:lnTo>
                <a:lnTo>
                  <a:pt x="25982" y="4707"/>
                </a:lnTo>
                <a:lnTo>
                  <a:pt x="25982" y="8224"/>
                </a:lnTo>
                <a:close/>
              </a:path>
              <a:path fill="darkenLess" w="43260" h="21600">
                <a:moveTo>
                  <a:pt x="20707" y="14299"/>
                </a:moveTo>
                <a:lnTo>
                  <a:pt x="22552" y="14299"/>
                </a:lnTo>
                <a:lnTo>
                  <a:pt x="22552" y="17989"/>
                </a:lnTo>
                <a:lnTo>
                  <a:pt x="26939" y="17989"/>
                </a:lnTo>
                <a:lnTo>
                  <a:pt x="26939" y="10800"/>
                </a:lnTo>
                <a:lnTo>
                  <a:pt x="16321" y="10800"/>
                </a:lnTo>
                <a:lnTo>
                  <a:pt x="16321" y="17989"/>
                </a:lnTo>
                <a:lnTo>
                  <a:pt x="20707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3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2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43760" y="907920"/>
            <a:ext cx="20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  <a:ea typeface="黑体"/>
              </a:rPr>
              <a:t>9.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黑体"/>
              </a:rPr>
              <a:t>数的改写和省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189072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个较大的多位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为了读写方便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常常把它改写成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万”或“亿”作单位的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有时还可以根据需要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省略这个数某一位后面的尾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写成近似数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64500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万”作单位的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3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万”作单位的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3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省略万位后面的尾数约为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45628000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改写成用“亿”作单位的数后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两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70120" y="5440320"/>
            <a:ext cx="56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62975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两位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( 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62975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保留三位小数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(  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79400" y="3332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7645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1000" y="3716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3.58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05120" y="40766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3120" y="47973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345.63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亿</a:t>
            </a:r>
            <a:r>
              <a:rPr b="0" lang="zh-CN" sz="2400" spc="-1" strike="noStrike">
                <a:solidFill>
                  <a:srgbClr val="7979a5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32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4.6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80920" y="580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4.63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9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9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7288" t="42478" r="21716" b="39293"/>
          <a:stretch/>
        </p:blipFill>
        <p:spPr>
          <a:xfrm>
            <a:off x="395280" y="1197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92280"/>
            <a:ext cx="9001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示一个数是另一个数的百分之几的数，叫做百分数。百分数又叫百分率或百分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157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百分数后面不能带单位名称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4076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分数是一种特殊的分数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5280" y="18900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百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12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百分数的意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20497" y="3837"/>
                </a:moveTo>
                <a:lnTo>
                  <a:pt x="23073" y="6448"/>
                </a:ln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lnTo>
                  <a:pt x="27460" y="10800"/>
                </a:lnTo>
                <a:lnTo>
                  <a:pt x="25806" y="10800"/>
                </a:lnTo>
                <a:lnTo>
                  <a:pt x="25806" y="17989"/>
                </a:lnTo>
                <a:lnTo>
                  <a:pt x="15187" y="17989"/>
                </a:lnTo>
                <a:lnTo>
                  <a:pt x="15187" y="10800"/>
                </a:lnTo>
                <a:lnTo>
                  <a:pt x="13534" y="10800"/>
                </a:lnTo>
                <a:close/>
              </a:path>
              <a:path fill="darkenLess" w="40993" h="21600">
                <a:moveTo>
                  <a:pt x="23073" y="6448"/>
                </a:moveTo>
                <a:lnTo>
                  <a:pt x="23073" y="4707"/>
                </a:lnTo>
                <a:lnTo>
                  <a:pt x="24849" y="4707"/>
                </a:lnTo>
                <a:lnTo>
                  <a:pt x="24849" y="8224"/>
                </a:lnTo>
                <a:close/>
              </a:path>
              <a:path fill="darkenLess" w="40993" h="21600">
                <a:moveTo>
                  <a:pt x="19574" y="14299"/>
                </a:moveTo>
                <a:lnTo>
                  <a:pt x="21419" y="14299"/>
                </a:lnTo>
                <a:lnTo>
                  <a:pt x="21419" y="17989"/>
                </a:lnTo>
                <a:lnTo>
                  <a:pt x="25806" y="17989"/>
                </a:lnTo>
                <a:lnTo>
                  <a:pt x="25806" y="10800"/>
                </a:lnTo>
                <a:lnTo>
                  <a:pt x="15187" y="10800"/>
                </a:lnTo>
                <a:lnTo>
                  <a:pt x="15187" y="17989"/>
                </a:lnTo>
                <a:lnTo>
                  <a:pt x="19574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484360" y="1052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分数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</a:rPr>
              <a:t>、小数、百分数的互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5360" y="2492280"/>
            <a:ext cx="54648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小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68520" y="5554800"/>
            <a:ext cx="54648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分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06000" y="2492280"/>
            <a:ext cx="72936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百分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7640" y="2708280"/>
            <a:ext cx="3313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986200" y="2852640"/>
            <a:ext cx="32414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2997360"/>
            <a:ext cx="1513080" cy="2519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195280" y="3068640"/>
            <a:ext cx="1655640" cy="2735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48360" y="3068280"/>
            <a:ext cx="136692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219280" y="3068640"/>
            <a:ext cx="1584360" cy="2735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07280" y="2014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25=(           )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32000" y="22701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小数点向右移动两位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添上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34560" y="3141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35%=(            )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19400" y="2846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去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%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小数点向左移动两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7973000">
            <a:off x="4098600" y="390168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化成小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化成百分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8103200">
            <a:off x="4890600" y="43992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写成分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552000">
            <a:off x="2090520" y="408780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用分数表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再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3541800">
            <a:off x="2072520" y="46206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分子除以分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938280" y="4241880"/>
            <a:ext cx="560160" cy="642600"/>
            <a:chOff x="6938280" y="4241880"/>
            <a:chExt cx="560160" cy="642600"/>
          </a:xfrm>
        </p:grpSpPr>
        <p:sp>
          <p:nvSpPr>
            <p:cNvPr id="399" name=""/>
            <p:cNvSpPr/>
            <p:nvPr/>
          </p:nvSpPr>
          <p:spPr>
            <a:xfrm>
              <a:off x="6938280" y="424188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27920" y="4581360"/>
              <a:ext cx="43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473600" y="4386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79120" y="4386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40%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42520" y="4292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53080" y="3645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05036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Arial"/>
              </a:rPr>
              <a:t>≈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Arial"/>
              </a:rPr>
              <a:t>0.167=16.7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26000" y="42400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a77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61080" y="43657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=0.25=25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6720" y="42926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2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2880" y="2054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55440" y="3141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0.003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140720" y="4149720"/>
            <a:ext cx="1100160" cy="642600"/>
            <a:chOff x="4140720" y="4149720"/>
            <a:chExt cx="1100160" cy="642600"/>
          </a:xfrm>
        </p:grpSpPr>
        <p:grpSp>
          <p:nvGrpSpPr>
            <p:cNvPr id="412" name=""/>
            <p:cNvGrpSpPr/>
            <p:nvPr/>
          </p:nvGrpSpPr>
          <p:grpSpPr>
            <a:xfrm>
              <a:off x="4285440" y="4149720"/>
              <a:ext cx="955440" cy="642600"/>
              <a:chOff x="4285440" y="4149720"/>
              <a:chExt cx="95544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4285440" y="4149720"/>
                <a:ext cx="56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 </a:t>
                </a:r>
                <a:r>
                  <a:rPr b="1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2  </a:t>
                </a:r>
                <a:r>
                  <a:rPr b="0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7a77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933800" y="4149720"/>
                <a:ext cx="30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7a77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140720" y="42940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      =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539640" y="33336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互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7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60280" y="318960"/>
            <a:ext cx="82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数、百分数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23=        1.5=            0.7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0%=        95%=          102%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6348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920" y="549360"/>
            <a:ext cx="795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百分数和分数的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9%=         25%=       110%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/5=           3/4=          9/10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8101080" y="6364440"/>
            <a:ext cx="1042920" cy="493560"/>
          </a:xfrm>
          <a:custGeom>
            <a:avLst/>
            <a:gdLst>
              <a:gd name="textAreaLeft" fmla="*/ 31680 w 1042920"/>
              <a:gd name="textAreaRight" fmla="*/ 1011240 w 104292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22812" y="3837"/>
                </a:moveTo>
                <a:lnTo>
                  <a:pt x="25389" y="6448"/>
                </a:lnTo>
                <a:lnTo>
                  <a:pt x="25389" y="4707"/>
                </a:lnTo>
                <a:lnTo>
                  <a:pt x="27164" y="4707"/>
                </a:lnTo>
                <a:lnTo>
                  <a:pt x="27164" y="8224"/>
                </a:lnTo>
                <a:lnTo>
                  <a:pt x="29775" y="10800"/>
                </a:lnTo>
                <a:lnTo>
                  <a:pt x="28122" y="10800"/>
                </a:lnTo>
                <a:lnTo>
                  <a:pt x="28122" y="17989"/>
                </a:lnTo>
                <a:lnTo>
                  <a:pt x="17503" y="17989"/>
                </a:lnTo>
                <a:lnTo>
                  <a:pt x="17503" y="10800"/>
                </a:lnTo>
                <a:lnTo>
                  <a:pt x="15849" y="10800"/>
                </a:lnTo>
                <a:close/>
              </a:path>
              <a:path fill="darkenLess" w="45624" h="21600">
                <a:moveTo>
                  <a:pt x="25389" y="6448"/>
                </a:moveTo>
                <a:lnTo>
                  <a:pt x="25389" y="4707"/>
                </a:lnTo>
                <a:lnTo>
                  <a:pt x="27164" y="4707"/>
                </a:lnTo>
                <a:lnTo>
                  <a:pt x="27164" y="8224"/>
                </a:lnTo>
                <a:close/>
              </a:path>
              <a:path fill="darkenLess" w="45624" h="21600">
                <a:moveTo>
                  <a:pt x="21890" y="14299"/>
                </a:moveTo>
                <a:lnTo>
                  <a:pt x="23735" y="14299"/>
                </a:lnTo>
                <a:lnTo>
                  <a:pt x="23735" y="17989"/>
                </a:lnTo>
                <a:lnTo>
                  <a:pt x="28122" y="17989"/>
                </a:lnTo>
                <a:lnTo>
                  <a:pt x="28122" y="10800"/>
                </a:lnTo>
                <a:lnTo>
                  <a:pt x="17503" y="10800"/>
                </a:lnTo>
                <a:lnTo>
                  <a:pt x="17503" y="17989"/>
                </a:lnTo>
                <a:lnTo>
                  <a:pt x="2189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82400" y="620640"/>
            <a:ext cx="8017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数、分数的互化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3=         0.25=       1.4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/ 5=       1 / 2 =       7 / 100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258920" y="1052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个数相除又叫做这两个数的比。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“：”是比号，比号前面的项叫比的前项，比号后面的项叫比的后项，前项除以后项所得的商叫比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2276640"/>
            <a:ext cx="78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007a77"/>
                </a:solidFill>
                <a:latin typeface="宋体"/>
              </a:rPr>
              <a:t>a÷b=a : b</a:t>
            </a:r>
            <a:r>
              <a:rPr b="1" lang="zh-CN" sz="66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6600" spc="-1" strike="noStrike">
                <a:solidFill>
                  <a:srgbClr val="007a77"/>
                </a:solidFill>
                <a:latin typeface="宋体"/>
              </a:rPr>
              <a:t>b≠0)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48000" y="321300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21300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03640" y="314172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8764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前项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81440" y="357336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  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16360" y="35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后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16360" y="443700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宋体"/>
              </a:rPr>
              <a:t>8:4=8÷4= 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比值）</a:t>
            </a:r>
            <a:r>
              <a:rPr b="1" lang="zh-CN" sz="5400" spc="-1" strike="noStrike">
                <a:solidFill>
                  <a:srgbClr val="007a77"/>
                </a:solidFill>
                <a:latin typeface="宋体"/>
              </a:rPr>
              <a:t>     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9640" y="333360"/>
            <a:ext cx="11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20749" t="81060" r="12942" b="13863"/>
          <a:stretch/>
        </p:blipFill>
        <p:spPr>
          <a:xfrm>
            <a:off x="395280" y="1773360"/>
            <a:ext cx="8136000" cy="1368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95280" y="90792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化简比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7643" y="3837"/>
                </a:moveTo>
                <a:lnTo>
                  <a:pt x="20219" y="6448"/>
                </a:ln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lnTo>
                  <a:pt x="24606" y="10800"/>
                </a:lnTo>
                <a:lnTo>
                  <a:pt x="22952" y="10800"/>
                </a:lnTo>
                <a:lnTo>
                  <a:pt x="22952" y="17989"/>
                </a:lnTo>
                <a:lnTo>
                  <a:pt x="12334" y="17989"/>
                </a:lnTo>
                <a:lnTo>
                  <a:pt x="12334" y="10800"/>
                </a:lnTo>
                <a:lnTo>
                  <a:pt x="10680" y="10800"/>
                </a:lnTo>
                <a:close/>
              </a:path>
              <a:path fill="darkenLess" w="35286" h="21600">
                <a:moveTo>
                  <a:pt x="20219" y="6448"/>
                </a:moveTo>
                <a:lnTo>
                  <a:pt x="20219" y="4707"/>
                </a:lnTo>
                <a:lnTo>
                  <a:pt x="21995" y="4707"/>
                </a:lnTo>
                <a:lnTo>
                  <a:pt x="21995" y="8224"/>
                </a:lnTo>
                <a:close/>
              </a:path>
              <a:path fill="darkenLess" w="35286" h="21600">
                <a:moveTo>
                  <a:pt x="16720" y="14299"/>
                </a:moveTo>
                <a:lnTo>
                  <a:pt x="18565" y="14299"/>
                </a:lnTo>
                <a:lnTo>
                  <a:pt x="18565" y="17989"/>
                </a:lnTo>
                <a:lnTo>
                  <a:pt x="22952" y="17989"/>
                </a:lnTo>
                <a:lnTo>
                  <a:pt x="22952" y="10800"/>
                </a:lnTo>
                <a:lnTo>
                  <a:pt x="12334" y="10800"/>
                </a:lnTo>
                <a:lnTo>
                  <a:pt x="12334" y="17989"/>
                </a:lnTo>
                <a:lnTo>
                  <a:pt x="16720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95280" y="1125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求比值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rcRect l="20987" t="86152" r="12348" b="9509"/>
          <a:stretch/>
        </p:blipFill>
        <p:spPr>
          <a:xfrm>
            <a:off x="0" y="2349360"/>
            <a:ext cx="9144000" cy="1366920"/>
          </a:xfrm>
          <a:prstGeom prst="rect">
            <a:avLst/>
          </a:prstGeom>
          <a:ln w="0">
            <a:noFill/>
          </a:ln>
        </p:spPr>
      </p:pic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8101080" y="624672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8422" y="3837"/>
                </a:moveTo>
                <a:lnTo>
                  <a:pt x="20998" y="6448"/>
                </a:lnTo>
                <a:lnTo>
                  <a:pt x="20998" y="4707"/>
                </a:lnTo>
                <a:lnTo>
                  <a:pt x="22774" y="4707"/>
                </a:lnTo>
                <a:lnTo>
                  <a:pt x="22774" y="8224"/>
                </a:lnTo>
                <a:lnTo>
                  <a:pt x="25385" y="10800"/>
                </a:lnTo>
                <a:lnTo>
                  <a:pt x="23731" y="10800"/>
                </a:lnTo>
                <a:lnTo>
                  <a:pt x="23731" y="17989"/>
                </a:lnTo>
                <a:lnTo>
                  <a:pt x="13112" y="17989"/>
                </a:lnTo>
                <a:lnTo>
                  <a:pt x="13112" y="10800"/>
                </a:lnTo>
                <a:lnTo>
                  <a:pt x="11459" y="10800"/>
                </a:lnTo>
                <a:close/>
              </a:path>
              <a:path fill="darkenLess" w="36843" h="21600">
                <a:moveTo>
                  <a:pt x="20998" y="6448"/>
                </a:moveTo>
                <a:lnTo>
                  <a:pt x="20998" y="4707"/>
                </a:lnTo>
                <a:lnTo>
                  <a:pt x="22774" y="4707"/>
                </a:lnTo>
                <a:lnTo>
                  <a:pt x="22774" y="8224"/>
                </a:lnTo>
                <a:close/>
              </a:path>
              <a:path fill="darkenLess" w="36843" h="21600">
                <a:moveTo>
                  <a:pt x="17499" y="14299"/>
                </a:moveTo>
                <a:lnTo>
                  <a:pt x="19344" y="14299"/>
                </a:lnTo>
                <a:lnTo>
                  <a:pt x="19344" y="17989"/>
                </a:lnTo>
                <a:lnTo>
                  <a:pt x="23731" y="17989"/>
                </a:lnTo>
                <a:lnTo>
                  <a:pt x="23731" y="10800"/>
                </a:lnTo>
                <a:lnTo>
                  <a:pt x="13112" y="10800"/>
                </a:lnTo>
                <a:lnTo>
                  <a:pt x="13112" y="17989"/>
                </a:lnTo>
                <a:lnTo>
                  <a:pt x="1749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24000" y="98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、比、除法之间的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692360" y="1484280"/>
            <a:ext cx="5472000" cy="1276560"/>
            <a:chOff x="1692360" y="1484280"/>
            <a:chExt cx="5472000" cy="1276560"/>
          </a:xfrm>
        </p:grpSpPr>
        <p:sp>
          <p:nvSpPr>
            <p:cNvPr id="444" name=""/>
            <p:cNvSpPr/>
            <p:nvPr/>
          </p:nvSpPr>
          <p:spPr>
            <a:xfrm>
              <a:off x="1692360" y="1700280"/>
              <a:ext cx="547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a÷b=a:b=  </a:t>
              </a:r>
              <a:r>
                <a:rPr b="1" lang="zh-CN" sz="4000" spc="-1" strike="noStrike">
                  <a:solidFill>
                    <a:srgbClr val="007a77"/>
                  </a:solidFill>
                  <a:latin typeface="宋体"/>
                </a:rPr>
                <a:t>（</a:t>
              </a: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b≠0)</a:t>
              </a: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   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4500360" y="1484280"/>
                  <a:ext cx="779040" cy="127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6" name=""/>
          <p:cNvSpPr/>
          <p:nvPr/>
        </p:nvSpPr>
        <p:spPr>
          <a:xfrm>
            <a:off x="2556000" y="2852640"/>
            <a:ext cx="80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被除数和除数同时扩大（或缩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同的倍数，商不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9640" y="501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数的分子和分母同时乘以或者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以相同的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3933720"/>
            <a:ext cx="102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比的前项和后项同时乘以或者除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相同 的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比值不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50920" y="189000"/>
            <a:ext cx="216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关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2924280"/>
            <a:ext cx="2305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商不变的规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4076640"/>
            <a:ext cx="21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的基本性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157720"/>
            <a:ext cx="24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数的基本性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8101080" y="6102360"/>
            <a:ext cx="1042920" cy="755640"/>
          </a:xfrm>
          <a:custGeom>
            <a:avLst/>
            <a:gdLst>
              <a:gd name="textAreaLeft" fmla="*/ 48960 w 1042920"/>
              <a:gd name="textAreaRight" fmla="*/ 993960 w 1042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9808" h="21600">
                <a:moveTo>
                  <a:pt x="0" y="0"/>
                </a:moveTo>
                <a:lnTo>
                  <a:pt x="29808" y="0"/>
                </a:lnTo>
                <a:lnTo>
                  <a:pt x="29808" y="21600"/>
                </a:lnTo>
                <a:lnTo>
                  <a:pt x="0" y="21600"/>
                </a:lnTo>
                <a:close/>
              </a:path>
              <a:path fill="lightenLess" w="29808" h="21600">
                <a:moveTo>
                  <a:pt x="0" y="0"/>
                </a:moveTo>
                <a:lnTo>
                  <a:pt x="29808" y="0"/>
                </a:lnTo>
                <a:lnTo>
                  <a:pt x="28408" y="1400"/>
                </a:lnTo>
                <a:lnTo>
                  <a:pt x="1400" y="1400"/>
                </a:lnTo>
                <a:close/>
              </a:path>
              <a:path fill="darken" w="29808" h="21600">
                <a:moveTo>
                  <a:pt x="29808" y="0"/>
                </a:moveTo>
                <a:lnTo>
                  <a:pt x="29808" y="21600"/>
                </a:lnTo>
                <a:lnTo>
                  <a:pt x="28408" y="20200"/>
                </a:lnTo>
                <a:lnTo>
                  <a:pt x="28408" y="1400"/>
                </a:lnTo>
                <a:close/>
              </a:path>
              <a:path fill="darkenLess" w="29808" h="21600">
                <a:moveTo>
                  <a:pt x="2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08" y="20200"/>
                </a:lnTo>
                <a:close/>
              </a:path>
              <a:path fill="lighten" w="2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08" h="21600">
                <a:moveTo>
                  <a:pt x="14904" y="3837"/>
                </a:moveTo>
                <a:lnTo>
                  <a:pt x="17480" y="6448"/>
                </a:ln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lnTo>
                  <a:pt x="21867" y="10800"/>
                </a:lnTo>
                <a:lnTo>
                  <a:pt x="20213" y="10800"/>
                </a:lnTo>
                <a:lnTo>
                  <a:pt x="20213" y="17989"/>
                </a:lnTo>
                <a:lnTo>
                  <a:pt x="9595" y="17989"/>
                </a:lnTo>
                <a:lnTo>
                  <a:pt x="9595" y="10800"/>
                </a:lnTo>
                <a:lnTo>
                  <a:pt x="7941" y="10800"/>
                </a:lnTo>
                <a:close/>
              </a:path>
              <a:path fill="darkenLess" w="29808" h="21600">
                <a:moveTo>
                  <a:pt x="17480" y="6448"/>
                </a:move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close/>
              </a:path>
              <a:path fill="darkenLess" w="29808" h="21600">
                <a:moveTo>
                  <a:pt x="13981" y="14299"/>
                </a:moveTo>
                <a:lnTo>
                  <a:pt x="15827" y="14299"/>
                </a:lnTo>
                <a:lnTo>
                  <a:pt x="15827" y="17989"/>
                </a:lnTo>
                <a:lnTo>
                  <a:pt x="20213" y="17989"/>
                </a:lnTo>
                <a:lnTo>
                  <a:pt x="20213" y="10800"/>
                </a:lnTo>
                <a:lnTo>
                  <a:pt x="9595" y="10800"/>
                </a:lnTo>
                <a:lnTo>
                  <a:pt x="9595" y="17989"/>
                </a:lnTo>
                <a:lnTo>
                  <a:pt x="1398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57360" y="1357920"/>
            <a:ext cx="79862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巩固练习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2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3/4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）：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6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/ 12=(     )%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 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60%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10=3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  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     ）小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÷16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/  4=0.25=6 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3 /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9548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8144" y="3837"/>
                </a:moveTo>
                <a:lnTo>
                  <a:pt x="20720" y="6448"/>
                </a:ln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lnTo>
                  <a:pt x="25107" y="10800"/>
                </a:lnTo>
                <a:lnTo>
                  <a:pt x="23453" y="10800"/>
                </a:lnTo>
                <a:lnTo>
                  <a:pt x="23453" y="17989"/>
                </a:lnTo>
                <a:lnTo>
                  <a:pt x="12835" y="17989"/>
                </a:lnTo>
                <a:lnTo>
                  <a:pt x="12835" y="10800"/>
                </a:lnTo>
                <a:lnTo>
                  <a:pt x="11181" y="10800"/>
                </a:lnTo>
                <a:close/>
              </a:path>
              <a:path fill="darkenLess" w="36288" h="21600">
                <a:moveTo>
                  <a:pt x="20720" y="6448"/>
                </a:moveTo>
                <a:lnTo>
                  <a:pt x="20720" y="4707"/>
                </a:lnTo>
                <a:lnTo>
                  <a:pt x="22496" y="4707"/>
                </a:lnTo>
                <a:lnTo>
                  <a:pt x="22496" y="8224"/>
                </a:lnTo>
                <a:close/>
              </a:path>
              <a:path fill="darkenLess" w="36288" h="21600">
                <a:moveTo>
                  <a:pt x="17221" y="14299"/>
                </a:moveTo>
                <a:lnTo>
                  <a:pt x="19067" y="14299"/>
                </a:lnTo>
                <a:lnTo>
                  <a:pt x="19067" y="17989"/>
                </a:lnTo>
                <a:lnTo>
                  <a:pt x="23453" y="17989"/>
                </a:lnTo>
                <a:lnTo>
                  <a:pt x="23453" y="10800"/>
                </a:lnTo>
                <a:lnTo>
                  <a:pt x="12835" y="10800"/>
                </a:lnTo>
                <a:lnTo>
                  <a:pt x="12835" y="17989"/>
                </a:lnTo>
                <a:lnTo>
                  <a:pt x="17221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分数、小数的产生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628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用一个单位的长度进行度量时，出现量不尽的情 形，这样可以将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单位再平均分成几份，由此产生了分数。如果平均分成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份，就产生了小数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55308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248000" cy="231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56400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317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a8fea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4720" y="3213000"/>
            <a:ext cx="21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8852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40196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约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5835960" y="623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基本性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4350600" y="623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与除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2740320" y="623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大小比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156960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260280"/>
            <a:ext cx="547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数学大闯关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9" name="Cloud"/>
          <p:cNvSpPr/>
          <p:nvPr/>
        </p:nvSpPr>
        <p:spPr>
          <a:xfrm>
            <a:off x="250920" y="306864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一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8fe9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427640" y="2708280"/>
            <a:ext cx="2160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7252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20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改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5760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循环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0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596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移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108680" y="61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大小比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322524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性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257760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读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971640" y="6165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顺序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192816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练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85fe85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三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2421000"/>
            <a:ext cx="324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百分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1640" y="4076640"/>
            <a:ext cx="27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互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" name=""/>
          <p:cNvSpPr/>
          <p:nvPr/>
        </p:nvSpPr>
        <p:spPr>
          <a:xfrm>
            <a:off x="63288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452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互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8924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4924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小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百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04880" y="6237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百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cfe6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755640" y="692280"/>
            <a:ext cx="360036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四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0" y="2852640"/>
            <a:ext cx="14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2" name=""/>
          <p:cNvSpPr/>
          <p:nvPr/>
        </p:nvSpPr>
        <p:spPr>
          <a:xfrm>
            <a:off x="1379160" y="623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39680" y="616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求比值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88880" y="61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化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07:57Z</dcterms:created>
  <dc:creator/>
  <dc:description/>
  <dc:language>en-US</dc:language>
  <cp:lastModifiedBy>雨林木风</cp:lastModifiedBy>
  <cp:lastPrinted>1899-12-30T00:00:00Z</cp:lastPrinted>
  <dcterms:modified xsi:type="dcterms:W3CDTF">2013-12-02T16:20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  <property fmtid="{D5CDD505-2E9C-101B-9397-08002B2CF9AE}" pid="3" name="NXTAG2">
    <vt:lpwstr>0008009001000000000001024120</vt:lpwstr>
  </property>
</Properties>
</file>